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A4C3-14F5-494B-A23D-CBE6E2C3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4D39-F0DD-4C03-85CB-24671C51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D724-E0D7-4A72-BBCE-116D939E6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09A3-C7D1-4737-9406-1F8FB4BF2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9C6E-5742-48C9-95A9-CC588939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BE50-877A-46C4-8FE8-F225D61B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C466-72AA-4A67-8C43-9413329D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C56F-A1A6-4AF6-BF34-2E9A9DBB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3360-B5F2-4EA8-8418-3D41BCF1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8389-CCF3-4CED-8356-5A30EE1E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D984-626C-43F5-9769-F5977541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D1FE-A009-4CD4-B9E4-6AD1F347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50000">
              <a:srgbClr val="ff8000"/>
            </a:gs>
            <a:gs pos="100000">
              <a:srgbClr val="000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14A0-C214-4A57-8F24-F37C8EA4C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50000">
              <a:srgbClr val="ff8000"/>
            </a:gs>
            <a:gs pos="100000">
              <a:srgbClr val="000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airMdITC TT-Medium"/>
              </a:rPr>
              <a:t>Run…..Run……R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50000">
              <a:srgbClr val="ff8000"/>
            </a:gs>
            <a:gs pos="100000">
              <a:srgbClr val="000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lways wanted to know why taller people run faster than shorter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50000">
              <a:srgbClr val="ff8000"/>
            </a:gs>
            <a:gs pos="100000">
              <a:srgbClr val="000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predict that the taller person will run faster than the shorter people.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50000">
              <a:srgbClr val="ff8000"/>
            </a:gs>
            <a:gs pos="100000">
              <a:srgbClr val="000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them run 2 with a distance 40 yards, time them. Write them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50000">
              <a:srgbClr val="ff8000"/>
            </a:gs>
            <a:gs pos="100000">
              <a:srgbClr val="000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c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school practice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 w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50000">
              <a:srgbClr val="ff8000"/>
            </a:gs>
            <a:gs pos="100000">
              <a:srgbClr val="000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1981080"/>
          <a:ext cx="4255920" cy="267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4255920" cy="26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838080" y="48769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as right and wrong it was the average height that was the fas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50000">
              <a:srgbClr val="ff8000"/>
            </a:gs>
            <a:gs pos="100000">
              <a:srgbClr val="000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 rot="1086000">
            <a:off x="685440" y="394344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 rot="20287200">
            <a:off x="5105520" y="396252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rot="1264800">
            <a:off x="5562720" y="83772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 rot="19867200">
            <a:off x="533160" y="837720"/>
            <a:ext cx="28191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6:38:44Z</dcterms:created>
  <dc:creator>Sterling JrHi</dc:creator>
  <dc:description/>
  <dc:language>en-US</dc:language>
  <cp:lastModifiedBy>USD376</cp:lastModifiedBy>
  <dcterms:modified xsi:type="dcterms:W3CDTF">2010-02-11T16:44:43Z</dcterms:modified>
  <cp:revision>3</cp:revision>
  <dc:subject/>
  <dc:title>Run…..Run……RUN</dc:title>
</cp:coreProperties>
</file>